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1F3A-CABD-49E0-873E-EE847D66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F531-06D6-410E-8796-20515F99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A60D-228E-4FCB-BD10-4AE85F4D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40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192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40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192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FEBB-A598-4422-8F0A-61AA576D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FCBC-C9B1-4C0B-9B5C-9043B8D3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D091-52ED-461E-B9F4-A163DE3A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BF96-2A88-47AD-94AD-AAD8C8FE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9B1-BC7C-4DA9-8F0D-DD623A64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402840"/>
            <a:ext cx="69948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DF8C-D43F-4046-A34B-AEF967E3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CE2B-FB33-4CC7-9327-92A5EE83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B72C-3A92-4C0C-AC25-2F7D0571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2F9F-CF4C-416D-8027-30C10465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800" y="9159840"/>
            <a:ext cx="1812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59840"/>
            <a:ext cx="2460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59840"/>
            <a:ext cx="1812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4A3D-AA84-4BCB-8C15-1F312B5A9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191120" y="2313360"/>
            <a:ext cx="3136320" cy="4539240"/>
            <a:chOff x="4191120" y="2313360"/>
            <a:chExt cx="3136320" cy="4539240"/>
          </a:xfrm>
        </p:grpSpPr>
        <p:sp>
          <p:nvSpPr>
            <p:cNvPr id="42" name=""/>
            <p:cNvSpPr/>
            <p:nvPr/>
          </p:nvSpPr>
          <p:spPr>
            <a:xfrm>
              <a:off x="4191120" y="3879720"/>
              <a:ext cx="2666520" cy="1397160"/>
            </a:xfrm>
            <a:prstGeom prst="parallelogram">
              <a:avLst>
                <a:gd name="adj" fmla="val 47713"/>
              </a:avLst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rot="17546400">
              <a:off x="3294360" y="4199760"/>
              <a:ext cx="4594320" cy="766440"/>
            </a:xfrm>
            <a:prstGeom prst="parallelogram">
              <a:avLst>
                <a:gd name="adj" fmla="val 149859"/>
              </a:avLst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48240" y="3879720"/>
              <a:ext cx="266040" cy="139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689440" y="5253120"/>
              <a:ext cx="4572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35280" y="3859200"/>
              <a:ext cx="4572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743360" y="4757760"/>
              <a:ext cx="4536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97160" y="4237200"/>
              <a:ext cx="45720" cy="4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73400" y="4494240"/>
              <a:ext cx="4572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16480" y="4295880"/>
              <a:ext cx="4572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28880" y="4410000"/>
              <a:ext cx="4572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75280" y="3449520"/>
              <a:ext cx="4536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11560" y="3618000"/>
              <a:ext cx="4572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4743360" y="4282920"/>
              <a:ext cx="169488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19480" y="3282840"/>
              <a:ext cx="230796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824440" y="321948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42000" y="338472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32240" y="363852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16400" y="405936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040" y="416880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95640" y="400356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43360" y="429588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95680" y="472428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08440" y="519732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05160" y="5943600"/>
              <a:ext cx="4572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24280" y="4648320"/>
              <a:ext cx="45684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952880" y="5440320"/>
              <a:ext cx="4572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52880" y="533412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76560" y="586728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28600" y="152280"/>
            <a:ext cx="7315200" cy="9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se the figure to answer the following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Line LO another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Ray SK another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a pair of opposite r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wo different se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a line that is skew to Line P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intersection of Line LO and Line P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intersection of Line KT with Plane JN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intersection of Line RQ with Plane RP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intersection of Line LO with Plane MP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intersection of Plane RTS with Plane LM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following groups of points collin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,T,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,J,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,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,N,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,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following groups of points coplan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,N,J,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LN and Line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RQ and Line 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,Q,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,N,O,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se the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 Black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figure to answer the following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an angle that makes a linear pair with &lt;FH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an angle that makes a linear pair with &lt;DH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an angle complementary to &lt;DH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an angle vertical to &lt;FH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an angle adjacent to &lt;EH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m&lt;DHC = m&lt;DHE, then ______ is an angle bisector of 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an angle that is supplementary to &lt;EH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809960" y="7010280"/>
            <a:ext cx="2581200" cy="1733400"/>
            <a:chOff x="4809960" y="7010280"/>
            <a:chExt cx="2581200" cy="1733400"/>
          </a:xfrm>
        </p:grpSpPr>
        <p:grpSp>
          <p:nvGrpSpPr>
            <p:cNvPr id="72" name=""/>
            <p:cNvGrpSpPr/>
            <p:nvPr/>
          </p:nvGrpSpPr>
          <p:grpSpPr>
            <a:xfrm>
              <a:off x="4809960" y="7010280"/>
              <a:ext cx="2581200" cy="1733400"/>
              <a:chOff x="4809960" y="7010280"/>
              <a:chExt cx="2581200" cy="1733400"/>
            </a:xfrm>
          </p:grpSpPr>
          <p:sp>
            <p:nvSpPr>
              <p:cNvPr id="73" name=""/>
              <p:cNvSpPr/>
              <p:nvPr/>
            </p:nvSpPr>
            <p:spPr>
              <a:xfrm>
                <a:off x="4809960" y="7924680"/>
                <a:ext cx="258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419440" y="7076880"/>
                <a:ext cx="1343160" cy="166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6105240" y="7010280"/>
                <a:ext cx="0" cy="9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556320" y="84992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89680" y="7908840"/>
                <a:ext cx="46080" cy="45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746680" y="748944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080040" y="734652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384520" y="7908840"/>
                <a:ext cx="46080" cy="45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80040" y="7908840"/>
                <a:ext cx="46080" cy="45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209920" y="791496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838840" y="788652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029280" y="725796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305400" y="840096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743520" y="77054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505480" y="742932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105240" y="7839000"/>
              <a:ext cx="114480" cy="8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20:51:15Z</dcterms:created>
  <dc:creator> </dc:creator>
  <dc:description/>
  <dc:language>en-US</dc:language>
  <cp:lastModifiedBy>Carri Carver</cp:lastModifiedBy>
  <dcterms:modified xsi:type="dcterms:W3CDTF">2008-08-15T18:01:34Z</dcterms:modified>
  <cp:revision>2</cp:revision>
  <dc:subject/>
  <dc:title>Slide 1</dc:title>
</cp:coreProperties>
</file>